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770-0ECF-470C-985F-B0B01521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338-E025-41A1-B1E2-4974E3FC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D6C-E1B5-4DE6-9895-E7D324EB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7CB-5C62-4181-819E-8F2FC12B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8DE-A1C6-45B2-83C7-E71B2268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4A7-B35F-4BDB-85F3-EDF2D131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7F3-41B6-47CE-9AC8-B977889D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B27-95A8-4219-AD70-362A5C51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813-287F-4C75-8DE9-3355BDD5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338-9635-47D5-906F-9AEB0B47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408-C0D6-436C-9972-9CD6E522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2CA-299D-4A62-BB4B-4FE83E57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A07B-881C-4B96-AA68-B38B27A87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21932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910000">
            <a:off x="2497320" y="2666520"/>
            <a:ext cx="458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172800">
            <a:off x="0" y="182880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2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809200">
            <a:off x="-151920" y="2666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576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445800">
            <a:off x="151920" y="91440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133200">
            <a:off x="4653000" y="182844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38200">
            <a:off x="3676320" y="9424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40080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910000">
            <a:off x="2438280" y="792432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1172800">
            <a:off x="0" y="701028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41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809200">
            <a:off x="-151920" y="7848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8390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445800">
            <a:off x="151920" y="609588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1133200">
            <a:off x="4576680" y="700992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38200">
            <a:off x="3676320" y="6124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64976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22:48:48Z</dcterms:created>
  <dc:creator>Preferred Customer</dc:creator>
  <dc:description/>
  <dc:language>en-US</dc:language>
  <cp:lastModifiedBy>Registered User</cp:lastModifiedBy>
  <dcterms:modified xsi:type="dcterms:W3CDTF">2008-10-16T20:31:03Z</dcterms:modified>
  <cp:revision>10</cp:revision>
  <dc:subject/>
  <dc:title>Slide 1</dc:title>
</cp:coreProperties>
</file>