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F48-9ACB-4CF8-A3DF-16BC6ED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515-B04C-42AA-9A42-F4DB1AEF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118-6C71-41B3-AF32-5FBE724B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2AA-8C26-4130-A017-9F8EE9A1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49C-E776-477B-98D3-024A3254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C4F-053C-477E-A4AD-65508D1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9E9-E6E2-412B-9C70-5F8D25B8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945-E71A-43EC-BC6A-2E322A54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518-389A-4510-A234-7BEDEFD8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0EC-3ACC-4D9F-AE08-E84F755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858-05CE-4B20-A637-CD3B646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76B-CDAF-411E-B186-5F41113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D02C-0F31-407D-9BA6-5952E181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10000">
            <a:off x="2497320" y="266652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172800">
            <a:off x="0" y="18288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9200">
            <a:off x="-151920" y="2666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445800">
            <a:off x="151920" y="91440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33200">
            <a:off x="4653000" y="182844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38200">
            <a:off x="3676320" y="94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400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10000">
            <a:off x="2438280" y="792432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172800">
            <a:off x="0" y="7010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4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809200">
            <a:off x="-151920" y="7848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839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45800">
            <a:off x="151920" y="609588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133200">
            <a:off x="4576680" y="700992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8200">
            <a:off x="3676320" y="6124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497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2:48:48Z</dcterms:created>
  <dc:creator>Preferred Customer</dc:creator>
  <dc:description/>
  <dc:language>en-US</dc:language>
  <cp:lastModifiedBy>Registered User</cp:lastModifiedBy>
  <dcterms:modified xsi:type="dcterms:W3CDTF">2008-10-16T20:31:03Z</dcterms:modified>
  <cp:revision>10</cp:revision>
  <dc:subject/>
  <dc:title>Slide 1</dc:title>
</cp:coreProperties>
</file>