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6091-4460-4C8B-A899-BD8AA156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2968-39F3-4D22-AB06-4C04B99F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6B43-F1C0-4954-B0DA-4540EE27A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A01A-EB0A-4232-8D5B-58AD94ED6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1F1D-2BFC-4302-9F0D-45A68F08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6647-FC94-4C69-BE9C-6C9C4D82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F868-6C15-43FB-A4C9-418F61C0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846E-8A46-43D1-8696-2DC0FC51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A89A-183E-4C56-B2EA-F5142654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697D-3414-4CB4-8B93-CE509B06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E38B-4BAF-4A4C-9DAB-86CF1DEA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61F2-644E-46C7-8718-A6C45F0E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A1A0-B59F-440F-947B-D1152A99E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1219320"/>
            <a:ext cx="2743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Scary Spu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Word Ban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910000">
            <a:off x="2497320" y="2666520"/>
            <a:ext cx="458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earrings, lashes, fingers, teeth, tongue, mus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172800">
            <a:off x="0" y="1828800"/>
            <a:ext cx="22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left, right, mid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28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one, two, three, four, five, six, seven, eight, nine, 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20809200">
            <a:off x="-151920" y="26665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next to, above, below, n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65760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red, blue, orange, yellow, green, black, brown, gray, purple, tan, white, p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445800">
            <a:off x="151920" y="914400"/>
            <a:ext cx="251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top, bottom,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1133200">
            <a:off x="4653000" y="1828440"/>
            <a:ext cx="22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small, medium,  la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38200">
            <a:off x="3676320" y="94248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pointy, round,  circle,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6400800"/>
            <a:ext cx="2743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Scary Spu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Word Ban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20910000">
            <a:off x="2438280" y="792432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earrings, lashes, fingers, teeth, tongue, mus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1172800">
            <a:off x="0" y="7010280"/>
            <a:ext cx="22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left, right, mid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33412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one, two, three, four, five, six, seven, eight, nine, 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20809200">
            <a:off x="-151920" y="784836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next to, above, below, n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83908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red, blue, orange, yellow, green, black, brown, gray, purple, tan, white, p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445800">
            <a:off x="151920" y="6095880"/>
            <a:ext cx="251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top, bottom,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1133200">
            <a:off x="4576680" y="7009920"/>
            <a:ext cx="22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small, medium,  la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538200">
            <a:off x="3676320" y="612432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pointy, round,  circle,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58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Kristen ITC"/>
              </a:rPr>
              <a:t>Sentence Check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oes your sentence start with a capital letter?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oes your sentence end with a period?             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oes your sentence make sense?                        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re word bank word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word wall words spelled correctly?       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id your partners read your sentence?              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Name ____________________      Group # 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649760"/>
            <a:ext cx="6858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Kristen ITC"/>
              </a:rPr>
              <a:t>Sentence Check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oes your sentence start with a capital letter?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oes your sentence end with a period?             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oes your sentence make sense?                        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re word bank word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word wall words spelled correctly?       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id your partners read your sentence?              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Name ____________________      Group # 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22:48:48Z</dcterms:created>
  <dc:creator>Preferred Customer</dc:creator>
  <dc:description/>
  <dc:language>en-US</dc:language>
  <cp:lastModifiedBy>Registered User</cp:lastModifiedBy>
  <dcterms:modified xsi:type="dcterms:W3CDTF">2008-10-16T20:31:03Z</dcterms:modified>
  <cp:revision>10</cp:revision>
  <dc:subject/>
  <dc:title>Slide 1</dc:title>
</cp:coreProperties>
</file>