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616-8F2E-4DAF-8B66-A94EB72D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AA1-D2C2-4936-814D-9073CBBF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D20-B341-42B7-ACAA-023DD82E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364-6FD1-4802-99FA-DAFC305F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90A-37C8-4387-A36C-B30F05D0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74B-8091-4197-8EC2-39E42627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301-325E-4634-88B5-43C9253D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CF9-020F-41DA-9329-DCA2A910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9C8-9D56-4F77-B917-C3E5A03F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CFD-7CAC-431E-89C2-476F95B5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7FD-2AAC-49A1-A9EC-5839F67C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5B3-EC6C-4C53-A367-79B740DA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1DD2-82AB-4F19-8A99-7F04C412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8280" y="20574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7609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9321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57676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77868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8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320" y="3808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2604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6320" y="213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4510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6320" y="40384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8472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6320" y="800100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76320" y="7444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320" y="225360"/>
            <a:ext cx="838080" cy="439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4969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9782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44020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52280" y="3882960"/>
            <a:ext cx="838440" cy="439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63831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52280" y="58644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836460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52280" y="7845480"/>
            <a:ext cx="83844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3016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52268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5348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2050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96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71010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406600"/>
            <a:ext cx="838080" cy="54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48769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6320" y="7238880"/>
            <a:ext cx="8380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624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763416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680" y="6643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840" y="5653080"/>
            <a:ext cx="754200" cy="993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662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367200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176688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8280" y="3049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00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0600" y="21337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0600" y="39625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3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20600" y="59436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0600" y="793908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320" y="990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3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52280" y="793908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838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2280" y="80010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6320" y="8381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2280" y="903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004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2280" y="19191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2833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52280" y="380988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705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270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46148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595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8577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7848720"/>
            <a:ext cx="7621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26352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320" y="838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320" y="4495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320" y="6477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320" y="850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7893000"/>
            <a:ext cx="83808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49:13Z</dcterms:created>
  <dc:creator>Preferred Customer</dc:creator>
  <dc:description/>
  <dc:language>en-US</dc:language>
  <cp:lastModifiedBy>Registered User</cp:lastModifiedBy>
  <dcterms:modified xsi:type="dcterms:W3CDTF">2008-09-29T18:22:11Z</dcterms:modified>
  <cp:revision>10</cp:revision>
  <dc:subject/>
  <dc:title>Slide 1</dc:title>
</cp:coreProperties>
</file>