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F70F-5A13-42E7-BB6A-72599DDAC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B40C-B389-4C78-90E3-121C5268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FFAD-BA95-41D8-BE45-9FD13D197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4C79-13A8-4114-9199-D91C5127B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FD83-3CDD-445E-B3D4-83266560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AEAE-D68E-4ADA-A75D-B39748C8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7A68-871B-4F38-9BA7-E38002B1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22E8-BC75-4BBA-8F3C-A4918061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C458-4E4C-47F6-8263-0577CA99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4D89-650F-4DE4-837B-CE2E62D0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BA7F-E2CE-49F8-A415-981B0FA0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3A0B-71A4-48DC-801F-2D2B07F0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7207-F45B-4B5F-87BE-ABD793000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990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3720" cy="914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8280" y="2057400"/>
            <a:ext cx="587520" cy="54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52280" y="2743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3760920"/>
            <a:ext cx="586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52280" y="3900600"/>
            <a:ext cx="549360" cy="625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6320" y="4586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1932120"/>
            <a:ext cx="586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28600" y="6033960"/>
            <a:ext cx="465120" cy="351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6415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5576760"/>
            <a:ext cx="586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228600" y="7710480"/>
            <a:ext cx="378000" cy="838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320" y="8624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7786800"/>
            <a:ext cx="586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64911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6320" y="60199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852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76320" y="38088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26049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76320" y="213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4510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76320" y="403848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8472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76320" y="8001000"/>
            <a:ext cx="571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9528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-76320" y="74448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yeb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ust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6320" y="225360"/>
            <a:ext cx="838080" cy="4399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249696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yeb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ust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52280" y="1978200"/>
            <a:ext cx="838440" cy="4395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440208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yeb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ust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152280" y="3882960"/>
            <a:ext cx="838440" cy="4399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0" y="638316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yeb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ust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152280" y="5864400"/>
            <a:ext cx="838440" cy="4395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0" y="836460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yeb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ust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152280" y="7845480"/>
            <a:ext cx="83844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990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30160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Legs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4522680"/>
            <a:ext cx="586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53481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2205000"/>
            <a:ext cx="586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769608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yeb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st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71010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262080"/>
            <a:ext cx="762120" cy="576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2406600"/>
            <a:ext cx="838080" cy="541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52280" y="4876920"/>
            <a:ext cx="571680" cy="457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76320" y="7238880"/>
            <a:ext cx="83808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990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3720" cy="914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8624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7634160"/>
            <a:ext cx="693720" cy="914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6212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5680" y="66438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5840" y="5653080"/>
            <a:ext cx="754200" cy="993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1440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6623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0" y="3672000"/>
            <a:ext cx="693720" cy="9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6212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75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0" y="1766880"/>
            <a:ext cx="693720" cy="914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6212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8280" y="304920"/>
            <a:ext cx="587520" cy="549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4000" y="990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20600" y="2133720"/>
            <a:ext cx="587520" cy="549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6320" y="28195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20600" y="3962520"/>
            <a:ext cx="587520" cy="549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6320" y="46483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20600" y="5943600"/>
            <a:ext cx="587520" cy="549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6320" y="6629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20600" y="7939080"/>
            <a:ext cx="587520" cy="549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6320" y="8624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280" y="3900600"/>
            <a:ext cx="549360" cy="625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6320" y="4586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52280" y="304920"/>
            <a:ext cx="549360" cy="6253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6320" y="990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52280" y="2057400"/>
            <a:ext cx="549360" cy="6253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6320" y="2743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52280" y="5943600"/>
            <a:ext cx="549360" cy="625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6320" y="6629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52280" y="7939080"/>
            <a:ext cx="549360" cy="625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6320" y="8624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465120" cy="351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838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28600" y="6033960"/>
            <a:ext cx="465120" cy="351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6415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28600" y="2209680"/>
            <a:ext cx="465120" cy="351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2590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228600" y="4038480"/>
            <a:ext cx="465120" cy="351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4419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52280" y="8001000"/>
            <a:ext cx="465120" cy="351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76320" y="83818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8600" y="7710480"/>
            <a:ext cx="378000" cy="838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6320" y="8624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52280" y="90360"/>
            <a:ext cx="378000" cy="838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10047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52280" y="1919160"/>
            <a:ext cx="378000" cy="838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28335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152280" y="3809880"/>
            <a:ext cx="378000" cy="838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152280" y="5791320"/>
            <a:ext cx="378000" cy="8380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6705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990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262080"/>
            <a:ext cx="762120" cy="576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0" y="2709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762120" cy="576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46148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762120" cy="576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6595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0" y="5867280"/>
            <a:ext cx="762120" cy="576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8577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0" y="7848720"/>
            <a:ext cx="76212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320" y="26352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Legs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2025720"/>
            <a:ext cx="838080" cy="5414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6320" y="8380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Legs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838080" cy="5414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6320" y="44956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Legs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838080" cy="541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6320" y="64771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Legs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0" y="5867280"/>
            <a:ext cx="838080" cy="5414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6320" y="85024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Legs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0" y="7893000"/>
            <a:ext cx="83808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49:13Z</dcterms:created>
  <dc:creator>Preferred Customer</dc:creator>
  <dc:description/>
  <dc:language>en-US</dc:language>
  <cp:lastModifiedBy>Registered User</cp:lastModifiedBy>
  <dcterms:modified xsi:type="dcterms:W3CDTF">2008-09-29T18:22:11Z</dcterms:modified>
  <cp:revision>10</cp:revision>
  <dc:subject/>
  <dc:title>Slide 1</dc:title>
</cp:coreProperties>
</file>