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00C8-3D4C-4796-8D92-E5FA21FA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23D-9C44-4249-A1E8-B4CA1D07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D1C9-0A61-49C2-A8DC-60912FF6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2CDC-DCFA-46E8-8D38-97DFD4F4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F850-24A1-4559-AA93-8C3C227A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AB7-2B8D-48FB-9368-9B6B0642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22F-825E-40A4-A520-3CD2ED70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F294-2916-40D3-8174-FB9D7E8F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CF86-5055-4B3C-BF66-306C555C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AAEA-C824-4F25-9F2A-1278DA2E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B8E0-BA7A-43F2-A9A8-F38EC4F6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658-3ED8-43E7-8C0C-7D26EDE9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3C4F-0728-4E37-AF71-66243F541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219320"/>
            <a:ext cx="274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cary Sp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ord Ba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910000">
            <a:off x="2497320" y="2666520"/>
            <a:ext cx="458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earrings, lashes, fingers, teeth, tongue, mus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172800">
            <a:off x="0" y="182880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left, right, mid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2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one, two, three, four, five, six, seven, eight, nine, 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809200">
            <a:off x="-151920" y="2666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next to, above, below, 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576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red, blue, orange, yellow, green, black, brown, gray, purple, tan, white, p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445800">
            <a:off x="151920" y="914400"/>
            <a:ext cx="25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op, bottom,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1133200">
            <a:off x="4653000" y="182844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small, medium,  l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38200">
            <a:off x="3676320" y="9424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pointy, round,  circle,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400800"/>
            <a:ext cx="274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cary Sp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ord Ba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0910000">
            <a:off x="2438280" y="792432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earrings, lashes, fingers, teeth, tongue, mus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1172800">
            <a:off x="0" y="701028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left, right, mid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33412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one, two, three, four, five, six, seven, eight, nine, 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0809200">
            <a:off x="-151920" y="7848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next to, above, below, 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8390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red, blue, orange, yellow, green, black, brown, gray, purple, tan, white, p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445800">
            <a:off x="151920" y="6095880"/>
            <a:ext cx="25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op, bottom,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1133200">
            <a:off x="4576680" y="700992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small, medium,  l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38200">
            <a:off x="3676320" y="61243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pointy, round,  circle,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risten ITC"/>
              </a:rPr>
              <a:t>Sentence Check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start with a capital letter?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end with a period?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make sense?          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e word bank word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word wall words spelled correctly?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id your partners read your sentence?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Name ____________________      Group #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649760"/>
            <a:ext cx="6858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risten ITC"/>
              </a:rPr>
              <a:t>Sentence Check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start with a capital letter?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end with a period?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oes your sentence make sense?          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e word bank word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word wall words spelled correctly?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Did your partners read your sentence?                   Y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Name ____________________      Group #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22:48:48Z</dcterms:created>
  <dc:creator>Preferred Customer</dc:creator>
  <dc:description/>
  <dc:language>en-US</dc:language>
  <cp:lastModifiedBy>Registered User</cp:lastModifiedBy>
  <dcterms:modified xsi:type="dcterms:W3CDTF">2008-10-16T20:31:03Z</dcterms:modified>
  <cp:revision>10</cp:revision>
  <dc:subject/>
  <dc:title>Slide 1</dc:title>
</cp:coreProperties>
</file>