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98D-BA5C-4855-8ABC-F32480E2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903-B5CA-4D05-A15A-DCFE8BE2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9FC-1D32-47F2-9096-ECCA12EF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C32-DC53-4C18-8189-6EBCB555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0CA-1CF1-4176-A644-70055919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4AF-15C8-4888-AAF4-F4854938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CB3-6427-4BD0-8DB3-93C7571F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C70-7201-4CE4-B671-1C3423CA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8B1-073E-471C-B2C7-6E1ECC6B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918-7430-4514-8604-55F15372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443-2EBF-41AE-8BF9-189CAEA1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BFA-EE01-445B-94D5-9C5D4C10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1F4C-C0F7-4761-8F10-B9316F89E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8280" y="205740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76092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52280" y="3900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45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93212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8600" y="603396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415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57676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28600" y="771048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8624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778680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8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320" y="3808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26049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6320" y="213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4510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6320" y="40384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8472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6320" y="8001000"/>
            <a:ext cx="57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76320" y="7444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6320" y="225360"/>
            <a:ext cx="838080" cy="439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49696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2280" y="1978200"/>
            <a:ext cx="838440" cy="439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44020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52280" y="3882960"/>
            <a:ext cx="838440" cy="439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638316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52280" y="5864400"/>
            <a:ext cx="838440" cy="43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836460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52280" y="7845480"/>
            <a:ext cx="83844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90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3016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52268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5348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20500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96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71010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762120" cy="57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2406600"/>
            <a:ext cx="838080" cy="54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487692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6320" y="7238880"/>
            <a:ext cx="8380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624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763416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5680" y="6643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840" y="5653080"/>
            <a:ext cx="754200" cy="993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662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367200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0" y="176688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8280" y="3049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00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0600" y="21337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0600" y="39625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3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20600" y="594360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6629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0600" y="793908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320" y="8624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3900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45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320" y="990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280" y="20574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3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320" y="6629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52280" y="793908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320" y="8624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838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603396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6415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8600" y="220968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2280" y="800100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6320" y="8381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771048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320" y="8624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2280" y="9036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004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2280" y="191916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2833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52280" y="380988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52280" y="579132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6705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90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762120" cy="576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2709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46148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595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586728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8577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7848720"/>
            <a:ext cx="7621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26352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320" y="838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320" y="4495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320" y="6477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586728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320" y="850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7893000"/>
            <a:ext cx="83808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49:13Z</dcterms:created>
  <dc:creator>Preferred Customer</dc:creator>
  <dc:description/>
  <dc:language>en-US</dc:language>
  <cp:lastModifiedBy>Registered User</cp:lastModifiedBy>
  <dcterms:modified xsi:type="dcterms:W3CDTF">2008-09-29T18:22:11Z</dcterms:modified>
  <cp:revision>10</cp:revision>
  <dc:subject/>
  <dc:title>Slide 1</dc:title>
</cp:coreProperties>
</file>