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BA38-8B18-4C0D-BAD6-D614559C2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52FD-95FC-4715-990B-D393DD9BA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68F3-39EC-4680-B685-8DDE0C474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1D22-8A25-47FD-B7C5-92C1D36B4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DCA9-431E-4DE3-B48B-271754FDA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9367-6EDD-471A-BE91-985782E6B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F02B-B6E0-4DB7-AC26-9EBB9B828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30B6-1B11-4977-9210-8EDA8A615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1A76-F569-46C9-957D-C8756684B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559F-5B00-418E-A9C5-9FBEF7D9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7DF0-4CF8-44DA-BFE3-DC6DBDB7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CD8A-4731-48C4-89CD-179B2A2A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1F48D-99E0-4D1A-BB24-1C958F216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990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93720" cy="914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62120" y="152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8280" y="2057400"/>
            <a:ext cx="587520" cy="549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52280" y="2743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E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3760920"/>
            <a:ext cx="5867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52280" y="3900600"/>
            <a:ext cx="549360" cy="625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6320" y="4586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1932120"/>
            <a:ext cx="5867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228600" y="6033960"/>
            <a:ext cx="465120" cy="351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6415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5576760"/>
            <a:ext cx="5867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228600" y="7710480"/>
            <a:ext cx="378000" cy="838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6320" y="8624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7786800"/>
            <a:ext cx="5867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762120" y="152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62120" y="778680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5805360"/>
            <a:ext cx="5791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3824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191916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64911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6320" y="601992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0" y="8524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76320" y="38088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0" y="26049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76320" y="213372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0" y="45100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76320" y="403848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0" y="8472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76320" y="8001000"/>
            <a:ext cx="5713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152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43000" y="778680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95280" y="5805360"/>
            <a:ext cx="5791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43000" y="3824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191916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-76320" y="744480"/>
            <a:ext cx="1219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yeb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ust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76320" y="225360"/>
            <a:ext cx="838080" cy="4399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0" y="2496960"/>
            <a:ext cx="1219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yeb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ust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152280" y="1978200"/>
            <a:ext cx="838440" cy="4395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4402080"/>
            <a:ext cx="1219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yeb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ust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152280" y="3882960"/>
            <a:ext cx="838440" cy="4399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0" y="6383160"/>
            <a:ext cx="1219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yeb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ust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152280" y="5864400"/>
            <a:ext cx="838440" cy="4395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0" y="8364600"/>
            <a:ext cx="1219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yeb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ust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152280" y="7845480"/>
            <a:ext cx="838440" cy="43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9907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A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52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30160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Legs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4522680"/>
            <a:ext cx="5867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53481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2205000"/>
            <a:ext cx="5867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769608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yeb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st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43000" y="710100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262080"/>
            <a:ext cx="762120" cy="576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2406600"/>
            <a:ext cx="838080" cy="541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52280" y="4876920"/>
            <a:ext cx="571680" cy="457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76320" y="7238880"/>
            <a:ext cx="838080" cy="4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990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93720" cy="914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62120" y="152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8624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7634160"/>
            <a:ext cx="693720" cy="9144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62120" y="778680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5680" y="66438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5840" y="5653080"/>
            <a:ext cx="754200" cy="9939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914400" y="5805360"/>
            <a:ext cx="5791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46623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0" y="3672000"/>
            <a:ext cx="693720" cy="9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762120" y="3824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75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0" y="1766880"/>
            <a:ext cx="693720" cy="9144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762120" y="191916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62120" y="152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778680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5805360"/>
            <a:ext cx="5791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3824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191916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8280" y="304920"/>
            <a:ext cx="587520" cy="549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4000" y="990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E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20600" y="2133720"/>
            <a:ext cx="587520" cy="549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6320" y="28195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E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20600" y="3962520"/>
            <a:ext cx="587520" cy="549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6320" y="46483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E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20600" y="5943600"/>
            <a:ext cx="587520" cy="5493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76320" y="6629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E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20600" y="7939080"/>
            <a:ext cx="587520" cy="5493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6320" y="86248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E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62120" y="152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778680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5805360"/>
            <a:ext cx="5791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3824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191916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2280" y="3900600"/>
            <a:ext cx="549360" cy="6253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6320" y="4586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52280" y="304920"/>
            <a:ext cx="549360" cy="6253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76320" y="990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52280" y="2057400"/>
            <a:ext cx="549360" cy="6253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6320" y="2743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152280" y="5943600"/>
            <a:ext cx="549360" cy="6253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6320" y="6629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152280" y="7939080"/>
            <a:ext cx="549360" cy="6253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6320" y="86248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62120" y="152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778680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5805360"/>
            <a:ext cx="5791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3824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191916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465120" cy="351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838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28600" y="6033960"/>
            <a:ext cx="465120" cy="351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0" y="6415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228600" y="2209680"/>
            <a:ext cx="465120" cy="351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0" y="25909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228600" y="4038480"/>
            <a:ext cx="465120" cy="351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0" y="44197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152280" y="8001000"/>
            <a:ext cx="465120" cy="351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76320" y="83818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152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778680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5805360"/>
            <a:ext cx="5791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24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191916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28600" y="7710480"/>
            <a:ext cx="378000" cy="8380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6320" y="8624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52280" y="90360"/>
            <a:ext cx="378000" cy="8384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0" y="100476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52280" y="1919160"/>
            <a:ext cx="378000" cy="8384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283356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152280" y="3809880"/>
            <a:ext cx="378000" cy="8384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0" y="4724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152280" y="5791320"/>
            <a:ext cx="378000" cy="8380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67057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62120" y="152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778680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5805360"/>
            <a:ext cx="5791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62120" y="3824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191916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9907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A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262080"/>
            <a:ext cx="762120" cy="576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0" y="27097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A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0" y="1981080"/>
            <a:ext cx="762120" cy="5763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0" y="46148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A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0" y="3886200"/>
            <a:ext cx="762120" cy="576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0" y="6595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A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0" y="5867280"/>
            <a:ext cx="762120" cy="5763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0" y="8577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A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0" y="7848720"/>
            <a:ext cx="762120" cy="5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762120" y="152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778680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5805360"/>
            <a:ext cx="5791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382428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191916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__________       Group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320" y="263520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Legs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2025720"/>
            <a:ext cx="838080" cy="5414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76320" y="8380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Legs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838080" cy="5414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6320" y="44956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Legs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0" y="3886200"/>
            <a:ext cx="838080" cy="5414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76320" y="647712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Legs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0" y="5867280"/>
            <a:ext cx="838080" cy="5414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76320" y="85024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Legs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0" y="7893000"/>
            <a:ext cx="83808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49:13Z</dcterms:created>
  <dc:creator>Preferred Customer</dc:creator>
  <dc:description/>
  <dc:language>en-US</dc:language>
  <cp:lastModifiedBy>Registered User</cp:lastModifiedBy>
  <dcterms:modified xsi:type="dcterms:W3CDTF">2008-09-29T18:22:11Z</dcterms:modified>
  <cp:revision>10</cp:revision>
  <dc:subject/>
  <dc:title>Slide 1</dc:title>
</cp:coreProperties>
</file>